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751-0819-46A3-980D-6D2E50DF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F13-79C4-485D-829E-F3F5353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2A3-1C63-4BAF-9DA6-346712F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476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228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0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476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228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FB8-7632-4F7F-A74C-C7098CEF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9A9-8C6E-4DBC-95AA-27DFD623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55D1-6CD6-4FC8-A734-2BD884E8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5C64-717E-42A6-8CF5-366545E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4865-443D-4023-8DB0-71663FE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F652-BC0A-4521-A8D4-78B09A9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25600" y="177480"/>
            <a:ext cx="80899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0C87-D2D0-4061-9C42-6E3C4FE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6AC0-10C4-4D21-889A-B2148F6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BF8-27F6-4E7D-BFDF-9BEDB761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D0F3-79F9-4AF0-A1B0-A233A5AC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09FF-78DC-4E5A-B14A-05179CD5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7239-BE54-4459-9E91-205AB82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34BE-2F34-426D-8E2F-B2EB2E86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476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28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60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476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28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48F4-D066-46FC-91F4-B5CDFD0D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113-EED7-4131-A0BC-2F9B0EB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BC1-AB6A-4E4A-BB28-CB40E6B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AD7-42A1-4A60-BCEF-26BF52F0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25600" y="177480"/>
            <a:ext cx="80899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BCD-D835-4FD5-AD25-DF527CF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5F3-38CD-494B-83A6-373F073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0B3-DCB5-4144-98B1-4FFF5BF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DBD-56D5-4EFA-BD3E-904B5FE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476760"/>
            <a:ext cx="2082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00A9-92DF-482C-896F-F8C6B06D04D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0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4960" y="6463800"/>
            <a:ext cx="196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8E18-2BDC-4604-9971-D02E4750171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2" descr="citi-r-3d-shadow_blu_ppt"/>
          <p:cNvPicPr/>
          <p:nvPr/>
        </p:nvPicPr>
        <p:blipFill>
          <a:blip r:embed="rId2"/>
          <a:srcRect l="0" t="0" r="8276" b="0"/>
          <a:stretch/>
        </p:blipFill>
        <p:spPr>
          <a:xfrm>
            <a:off x="8373960" y="0"/>
            <a:ext cx="77004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4"/>
          <p:cNvSpPr/>
          <p:nvPr/>
        </p:nvSpPr>
        <p:spPr>
          <a:xfrm>
            <a:off x="0" y="635040"/>
            <a:ext cx="9144000" cy="74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citi-r-3d-shadow_blu_ppt"/>
          <p:cNvPicPr/>
          <p:nvPr/>
        </p:nvPicPr>
        <p:blipFill>
          <a:blip r:embed="rId2"/>
          <a:srcRect l="0" t="0" r="8276" b="0"/>
          <a:stretch/>
        </p:blipFill>
        <p:spPr>
          <a:xfrm>
            <a:off x="8373960" y="0"/>
            <a:ext cx="77004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4"/>
          <p:cNvSpPr/>
          <p:nvPr/>
        </p:nvSpPr>
        <p:spPr>
          <a:xfrm>
            <a:off x="0" y="635040"/>
            <a:ext cx="9144000" cy="74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7960" y="6476760"/>
            <a:ext cx="2082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129D-188C-4AA9-93AB-5AD284E5EE7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0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54960" y="6463800"/>
            <a:ext cx="196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844-7B32-4D62-B6AA-A550A058BCDF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tibank.ro/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Picture 4" descr="Picture 11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DF48-9C94-4899-BAD3-68EC9D674DB6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iti Value Card - Caracteristici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708120"/>
            <a:ext cx="88106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omision anual card principal : 60 Lei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omision anual card suplimentar: gratuit pe vi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obanda anuala la comercianti : 25,99 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obanda anuala pentru retrageri numerar: 28,99 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de credit : pana la 3 x venitul net, maxim  75.000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minima de credit: 2.000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de retragere numerar : 50 % din limita de credi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erioada de gratie : pana la 54 zil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Suma minima de plata : minimum 3,5 %x sold debitor + dobânda + ratele aferente serviciilor PRE şi BPT (daca este cazul) + comsionele penalizatoare (daca este cazul) + suma reprezentand depasirea limitei de credit (daca este cazul) + suma minima de plata din extrasul precedent (in cazul in care nu s-a platit), dar nu mai putin de 25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cceptare la nivel mondial (comercianti si ATM) – reteaua VIS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Reduceri  la comerciantii din reteaua CitiPartner, peste 500 de locati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iscount de 2% pentru sumele utilizate in Romania la comerciantii din categoriile: supermarket, benzinarii, imbracaminte si pantofi, Restaurante, Cinema (discount de 5% in primele 90 de zile) oferite in extrasul de co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igurare pentru garantie extinsa – oferita gratui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achet  de asigurare “Safety” optional, contra cost, oferit pentru protectia pretului, cumparaturilor si a utilizarilor frauduloas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5" name="Picture 6" descr="C:\Documents and Settings\ag67592\Desktop\cardif1.jpg"/>
          <p:cNvPicPr/>
          <p:nvPr/>
        </p:nvPicPr>
        <p:blipFill>
          <a:blip r:embed="rId1"/>
          <a:stretch/>
        </p:blipFill>
        <p:spPr>
          <a:xfrm>
            <a:off x="6568920" y="714240"/>
            <a:ext cx="23641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 de mult economisesti folosind Citi Value Car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Picture 4" descr="flyer_fata1"/>
          <p:cNvPicPr/>
          <p:nvPr/>
        </p:nvPicPr>
        <p:blipFill>
          <a:blip r:embed="rId1"/>
          <a:stretch/>
        </p:blipFill>
        <p:spPr>
          <a:xfrm>
            <a:off x="0" y="1273320"/>
            <a:ext cx="9144000" cy="4573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863640" y="888840"/>
            <a:ext cx="8128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EBUIE MODIFICAT CU NOUL LEAFLET CARE INCLUDE SI IMPOZIT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019160"/>
            <a:ext cx="8899560" cy="4441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2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 de mult economisesti folosind Citi Value Car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AutoShape 971"/>
          <p:cNvSpPr/>
          <p:nvPr/>
        </p:nvSpPr>
        <p:spPr>
          <a:xfrm>
            <a:off x="8102520" y="5078520"/>
            <a:ext cx="863640" cy="59364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975"/>
          <p:cNvSpPr/>
          <p:nvPr/>
        </p:nvSpPr>
        <p:spPr>
          <a:xfrm>
            <a:off x="6033960" y="4406760"/>
            <a:ext cx="822600" cy="45720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976"/>
          <p:cNvSpPr/>
          <p:nvPr/>
        </p:nvSpPr>
        <p:spPr>
          <a:xfrm>
            <a:off x="5068800" y="4381560"/>
            <a:ext cx="665280" cy="50472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5638680"/>
            <a:ext cx="8991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 algn="just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losind Citi Value Car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unar puteti economisi net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34 Lei,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iar in primele 3 luni puteti economisi ne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50 Le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nual puteti economisi foarte usor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494 Le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1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0A3-9E4F-4A21-9FEE-CD2F74091121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026"/>
          <p:cNvSpPr/>
          <p:nvPr/>
        </p:nvSpPr>
        <p:spPr>
          <a:xfrm>
            <a:off x="0" y="9954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Extrasul de co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463680" y="847800"/>
            <a:ext cx="8292960" cy="560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511520" y="3492360"/>
          <a:ext cx="3718080" cy="365400"/>
        </p:xfrm>
        <a:graphic>
          <a:graphicData uri="http://schemas.openxmlformats.org/drawingml/2006/table">
            <a:tbl>
              <a:tblPr/>
              <a:tblGrid>
                <a:gridCol w="2686320"/>
                <a:gridCol w="103176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 discount  extras curent de co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4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iscount de la aprobarea cardul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4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AutoShape 976"/>
          <p:cNvSpPr/>
          <p:nvPr/>
        </p:nvSpPr>
        <p:spPr>
          <a:xfrm>
            <a:off x="7164360" y="3187800"/>
            <a:ext cx="1096920" cy="1006200"/>
          </a:xfrm>
          <a:prstGeom prst="irregularSeal1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5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896-79CF-4895-AFEF-A3D32FA25286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9954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34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um func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t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ioneaz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Citi 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Value 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Card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93400"/>
            <a:ext cx="86612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Limita de credit este stabilita de banca in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unctie de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venitul net al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licitantului de card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si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de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incadrarea acestuia in criteriile de eligibilitate stabilite prin politicile interne de cred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Detinatorul de card poate utiliza integral limit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e credit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pentru cumparaturi (comercianti, Internet), plata utilitătilor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pt-BR" sz="1600" spc="-1" strike="noStrike">
                <a:solidFill>
                  <a:srgbClr val="000099"/>
                </a:solidFill>
                <a:latin typeface="Arial"/>
              </a:rPr>
              <a:t>gaz, apa, electricitate, telefonie, internet, cablu TV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si </a:t>
            </a:r>
            <a:r>
              <a:rPr b="0" i="1" lang="pt-BR" sz="1600" spc="-1" strike="noStrike">
                <a:solidFill>
                  <a:srgbClr val="000099"/>
                </a:solidFill>
                <a:latin typeface="Arial"/>
              </a:rPr>
              <a:t>taxe de scolarizare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 50% din limita de credit pentru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retragere de num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Perioada de gratie este de 54 de zile, daca achizitia a fost facuta in prima zi a perioadei de referinta (30 de zile) si daca sol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ul debitor est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rambursat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integral pana la data scad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cumularea, pe extras, de sume de bani oferite ca discount la tranzactiile din Romania efectuate la comerciantii din categoriile pentru care se acorda reduce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iscountul NU se ofera pentru tranzactiile de retragere de numerar, efectuate la comercianti in strainatate sau efectuate p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Ofera posibilitatea de 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achita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numai suma minima de plata (3,5% din soldul debitor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+ dobânda + ratele aferente serviciilor PRE şi BPT (daca este cazul) + comsionele penalizatoare (daca este cazul) + suma reprezentand depasirea limitei de credit (daca este cazul) + suma minima de plata din extrasul precedent (in cazul in care nu s-a platit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D8E-7512-4621-9C0A-D9D325A00D9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eneficii Citi Value Card - fata de plata cu numer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4880" y="809280"/>
            <a:ext cx="88232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Minimizează pericolul de pierdere sau de furt a numerarului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feră dobândă ZERO pentru cumpărături, de până la 54 de z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Folosind Citi Value Card pentru toate platile puteti depune numerarul într-un cont purtător de dobândă sau depozit la termen beneficiind de dobând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Vă asigură optional si contra cost pe perioada călătoriilor in straina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, din reteaua CitiPartn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teti plă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teti efectua cumparaturi pe int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Economisiti bani şi nu vă expuneţi riscului de schimb valutar in cazul plăţilor in valută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Beneficiaţi de un extras de cont lunar detaliat ce va permite urmarirea cheltuiel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7E5A-A53D-466F-9C18-A0CAAABC6347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1440" y="177480"/>
            <a:ext cx="8344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eneficii Citi Value Card - fata </a:t>
            </a: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de un card de debit cu descoperire de co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480" y="948960"/>
            <a:ext cx="844236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Oferă dobândă ZERO pentru cumpărături, de până la 54 de z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Folosind Citi Value Card pentru toate platile puteti depune numerarul într-un cont purtător de dobândă sau depozit la termen beneficiind de dobând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Vă asigură contra cost pe perioada călătoriilor in straina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 in reteaua CitiPartner, peste 500 de locati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uteti pla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Oferă siguranţă mai mare la efectuarea cumparaturilor pe int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ţi de un extras de cont lunar detaliat ce va permite urmarirea cheltuiel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ti de campaniile publicitare pentru utilizarea cardulu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rin serviciul de alertare CitiAlert beneficiati de informare permanenta in timp real asupra tranzactiilor dumneavoastra prin sms/e-mai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ECD1-E042-4AD0-838D-A7C2BD9387F5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eneficii Citi Value Card – fata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de plata cu un alt card de credi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Vă asigură gratuit pe perioada călători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, din reteaua CitiPartner, peste 500 de locati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uteti pla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rin serviciul de alertare CitiAlert beneficiati de informare permanenta in timp real asupra tranzactiilor dumneavoastra prin sms/e-mai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cenarii calcul DAE  (limita de credit aprobat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5,367 Lei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9360" y="948960"/>
            <a:ext cx="867096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ata dobanzii pentru cumparaturi este fix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,99 %/a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ar pentru retrageri de numerar este fix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8,99 %/a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intreaga limita de credit (50% cumparaturi, 50% retragere de numer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4.04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6.259,40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intreaga limita de credit pentru cumparaturi (100% cumparat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2.08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6.212,20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doar limita disponibila pentru retragere de num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8.97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.183,3 Lei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4EE7-F3AF-4310-8295-FC4D9F68E7B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96880" y="3238560"/>
            <a:ext cx="723960" cy="673200"/>
          </a:xfrm>
          <a:prstGeom prst="irregularSeal2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44280"/>
            <a:ext cx="82407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es gratuit la muze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612720"/>
            <a:ext cx="590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entru iubitorii de cultura - acces gratuit  la Muzeele din Bucuresti si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cces gratuit la cele mai vizitate 17 muzee din Bucuresti si tara (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Sibiu, Iasi, Cluj, Sinaia si Bran) – lista se afla pe site (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tibank.ro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entru clientii Value Card (la fel ca pentru clientii Gold) – intrare gratuita + 2 pers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Reduceri  la magazinele CitiPartner, peste 500 de locatii  intre 10-30% (la fel ca pentru clientii G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a intrare clientii vor prezenta cardul de credit  care va fi trecut printr-un imprinter (zip-zap). Pe chitanta imprimata se va trece numele clientului + cati invitati are (nu mai mult de numarul ag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peles2"/>
          <p:cNvPicPr/>
          <p:nvPr/>
        </p:nvPicPr>
        <p:blipFill>
          <a:blip r:embed="rId2"/>
          <a:stretch/>
        </p:blipFill>
        <p:spPr>
          <a:xfrm>
            <a:off x="6313320" y="1405080"/>
            <a:ext cx="253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A56-6257-46C9-B1EB-66B557CCA711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34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94240" y="2945880"/>
            <a:ext cx="554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el mai mare discount pe piata: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5%*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plicat pe extrasul curent in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le 90 de zil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 la data emiterii card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conomii real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: primesti banii imediat, fara amanari, fara concursuri, fara puncte de fidel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ransparenta si vizibilitat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: reducerile afisate direct pe extrasul in care ai chelt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obanda scazut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entru tranzactiile la comercianti: 25.99% pe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iti-Shopping-chip"/>
          <p:cNvPicPr/>
          <p:nvPr/>
        </p:nvPicPr>
        <p:blipFill>
          <a:blip r:embed="rId1"/>
          <a:stretch/>
        </p:blipFill>
        <p:spPr>
          <a:xfrm>
            <a:off x="6048360" y="723960"/>
            <a:ext cx="2820960" cy="1879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68280" y="888840"/>
            <a:ext cx="59817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de 2%*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plicat pe extrasul curent pentru tranzactiile la comerciantii din Romania din urmatoarele categor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Hypermarket si Supermar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zina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staurante, baruri, cafen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mbracaminte, incaltami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in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9" descr="I:\Value Card project\5127discount.jpg"/>
          <p:cNvPicPr/>
          <p:nvPr/>
        </p:nvPicPr>
        <p:blipFill>
          <a:blip r:embed="rId2"/>
          <a:stretch/>
        </p:blipFill>
        <p:spPr>
          <a:xfrm>
            <a:off x="558720" y="3657600"/>
            <a:ext cx="3057480" cy="2235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599436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%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7AA6-A04D-49F9-91CB-5723F316DDE8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9680" y="965160"/>
          <a:ext cx="8864640" cy="5664240"/>
        </p:xfrm>
        <a:graphic>
          <a:graphicData uri="http://schemas.openxmlformats.org/drawingml/2006/table">
            <a:tbl>
              <a:tblPr/>
              <a:tblGrid>
                <a:gridCol w="2273400"/>
                <a:gridCol w="6591240"/>
              </a:tblGrid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d Categorie Comerciant (MCC = Merchant Code Categ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te definit de catre Asociatia de carduri VISA si fiecare comerciant este incadrat intr-o categorie in momentul in care Banca Acceptatoare ii instaleaza POS-ul. Categoria se alege de catre Banca Acceptatoare in functie de activitatea prestata de comerciantul respec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per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telele mari de magazine alimentare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uchan, Billa, Carrefour, Kaufland, Interspar, Mega Image, Metro, Penny Market, Real, XXL, G-Market, Profi, Cristim, ANGST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zinar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oate benzinariile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MV, Lukoil, Mol, Agip, Rompetrol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staurante, baruri, cafen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joritatea restaurantelor, fast-food-urilor, cafenelelor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cDonald, KFC, Pizza Hut,Burger King, Gregory’s, Spring Time, Chopstix, El Bacha, Quatro Stagioni, Trattoria, Costa Coffe, Dailight Donuts, Starbuck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bracaminte, incaltami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joritatea comerciantilor din mall-uri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Zara, Mango, Bershka, Massimo Dutti, Gap, Motivi, Promod, Esprit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ox, Benvenutti, Il Passo, Aldo, Bata, et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FBB-696C-4A9A-A2AE-DDB717867CD9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760" y="1177920"/>
            <a:ext cx="8556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erioad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 gratie pentru tranzactiile la comercianti -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ana la 54 de z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sigurare pentru garantie extinsa la produsele electronice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ita grat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achetul de asigurare “Safety”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– pachet optional contra cost, oferit pentru protectia pretului, a cumparaturilor si pentru utilizarea frauduloasa a card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Asigurarea creditului utilizat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ita de ALICO Asigurari Romania S.A.*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ptionala, contra cost,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asigura suma utilizata din limita de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sigurare optionala de calatori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–contra cost, acopera cheltuielile de natura medicala si protejarea bunurilor detinatorilor de carduri pe perioada calatoriilor in straina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Serviciul Cit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lert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erviciu optional, contra cost, care ofera posibilitate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detinatorului sa primeasca un mesaj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de informare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prin SMS si/sau e-mail pentru fiecare tranzacti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f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acuta cu card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E95-FCB9-41B5-AE1C-7F965480230A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66760" y="1177920"/>
            <a:ext cx="8556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lan de Rate Egale (PRE)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sibilitatea de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ambursa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suma utilizata din limita de credit in rate egale la o dobanda anuala scaz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Serviciul Bani Prin Telefon (BPT)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sibilitatea de a transfera o parte din limita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tragere de numerar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din contul de card intr-un cont curent al Detinatorului de Card deschis la o alta Banca din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lata utilităti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</a:rPr>
              <a:t>gaz, apa, electricitate, telefonie, internet, cablu TV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si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</a:rPr>
              <a:t>taxe de scolarizare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t fi platite prin CitiPhon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Banking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Acceptare internationala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la comercianti si pentru extragerea de num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CitiPhone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Banking®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serviciul de relatii cu clientii la telefoanele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080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801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40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elVerde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+40 372 124-842 (mobil si inter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rduri Suplimentar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– pana la 6 rude/prieteni care pot avea acces la limita si beneficiile titularului d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F912-94F5-4F81-9455-4D49CE97F9DB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17520" y="1063440"/>
            <a:ext cx="60451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ERMARKET si HYPER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a tot ce achizitionati in supermarket-uri (ex: Carrefour, Billa, Cora, Mega Image, G-Market, etc.) economisiti  2-5%* din valoarea aferenta, indiferent de suma cheltuita (tranzactii efectuate in Ro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eficiati de reduceri nu de concursuri sau puncte de fideli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a sfarsit de extras primesti 2-5%* din sumele chelt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Supermark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2" descr="I:\Value Card project\discount-coupons.jpg"/>
          <p:cNvPicPr/>
          <p:nvPr/>
        </p:nvPicPr>
        <p:blipFill>
          <a:blip r:embed="rId1"/>
          <a:stretch/>
        </p:blipFill>
        <p:spPr>
          <a:xfrm>
            <a:off x="6342120" y="1028880"/>
            <a:ext cx="2496960" cy="2489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809880" y="3860640"/>
            <a:ext cx="49402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ara conditionari de suma minima cheltu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18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eficiezi  gratuit de garantie extinsa pentru electron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anii tai devin mai valorosi cu fiecare cumparatura pe care o faci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I:\Value Card project\278050_9913.jpg"/>
          <p:cNvPicPr/>
          <p:nvPr/>
        </p:nvPicPr>
        <p:blipFill>
          <a:blip r:embed="rId2"/>
          <a:stretch/>
        </p:blipFill>
        <p:spPr>
          <a:xfrm>
            <a:off x="647640" y="4124160"/>
            <a:ext cx="3048120" cy="221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334120" y="599436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:\Value Card project\ist2_2101655-fuel-costs.jpg"/>
          <p:cNvPicPr/>
          <p:nvPr/>
        </p:nvPicPr>
        <p:blipFill>
          <a:blip r:embed="rId1"/>
          <a:stretch/>
        </p:blipFill>
        <p:spPr>
          <a:xfrm>
            <a:off x="5905440" y="781200"/>
            <a:ext cx="2768760" cy="1536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371520" y="936720"/>
            <a:ext cx="855648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urnizori de carbu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arbur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nack-uri si cafea pentru d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ichid de parbriz, ulei de motor, lanturi si alte consumabile pentru mas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26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Astepti sa se ieftineasca combustibilu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lue Card iti ofera mai mult!  Primesti reduceri reale pentru toate achizitiile d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zinarii, inclusiv carburant (tranzactii efectuate in Romani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0424-359C-468C-B0F7-3E417B6C7339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720960" y="3695760"/>
            <a:ext cx="52452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ti faci plinul /Alimentezi si primesti un discount garantat  de 2-5%* din cheltuielile de transport la sfarsitul extrasului lu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izibilitate maxima a sumelor economisite din cheltuielile cu carburantul, afisate pe extreasul de cont.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Furnizori de carbura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2" name="Picture 2" descr="I:\Value Card project\ist2_13203964-fuel-gauge.jpg"/>
          <p:cNvPicPr/>
          <p:nvPr/>
        </p:nvPicPr>
        <p:blipFill>
          <a:blip r:embed="rId2"/>
          <a:stretch/>
        </p:blipFill>
        <p:spPr>
          <a:xfrm>
            <a:off x="698400" y="4838760"/>
            <a:ext cx="138456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:\Value Card project\ist2_13850323-fuel-gauge.jpg"/>
          <p:cNvPicPr/>
          <p:nvPr/>
        </p:nvPicPr>
        <p:blipFill>
          <a:blip r:embed="rId3"/>
          <a:stretch/>
        </p:blipFill>
        <p:spPr>
          <a:xfrm>
            <a:off x="2306520" y="4826160"/>
            <a:ext cx="142740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1206360" y="4444920"/>
            <a:ext cx="2014560" cy="550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181480" y="5842080"/>
            <a:ext cx="381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07AA-1135-4C17-870E-E3479966C78E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7840" y="799920"/>
            <a:ext cx="87724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i o viata sociala ac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TAURANTE, BARURI, CAFEN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bisnuiesti sa iei masa in oras, in timpul serviciului sau in timpul li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Te distezi in baruri sau iesi la o caf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hita nota cu Value Card si primesti inap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2-5%* din consumul tau la emiterea extrasulu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ti place sa traiesti alaturi de actorii tai prefera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loseste Value Card si delecteaza-te alaturi de 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hita biletul cu Value Card si primesti inap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2-5%* din valoarea lui la emiterea extrasulu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esta este inceputul unei prietenii frumoas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UZ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ucura-te de acces gratuit si nelimitat la cele mai impor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uzee din tara alaturi de 2 pers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Stil de vi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0" name="Picture 2" descr="I:\Value Card project\castelul-peles.jpg"/>
          <p:cNvPicPr/>
          <p:nvPr/>
        </p:nvPicPr>
        <p:blipFill>
          <a:blip r:embed="rId1"/>
          <a:stretch/>
        </p:blipFill>
        <p:spPr>
          <a:xfrm>
            <a:off x="6807240" y="4681440"/>
            <a:ext cx="1946160" cy="13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I:\Value Card project\Goethe%20cinema%20front.jpg"/>
          <p:cNvPicPr/>
          <p:nvPr/>
        </p:nvPicPr>
        <p:blipFill>
          <a:blip r:embed="rId2"/>
          <a:stretch/>
        </p:blipFill>
        <p:spPr>
          <a:xfrm>
            <a:off x="6794640" y="3295800"/>
            <a:ext cx="1949400" cy="1292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5181480" y="6032520"/>
            <a:ext cx="3962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10" descr="C:\Documents and Settings\ag67592\Desktop\Value Card project\tocanita-cu-carnati-300x183.jpg"/>
          <p:cNvPicPr/>
          <p:nvPr/>
        </p:nvPicPr>
        <p:blipFill>
          <a:blip r:embed="rId3"/>
          <a:stretch/>
        </p:blipFill>
        <p:spPr>
          <a:xfrm>
            <a:off x="6781680" y="2062080"/>
            <a:ext cx="1962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F879-EA78-4D59-B484-FBF5DA84B7DE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66760" y="952560"/>
            <a:ext cx="5727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rei sa fii in ton cu mo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oda in materie de incaltaminte are un nou tr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tepti reducerile de sfarsit de sez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teptarea s-a termin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lue Card iti reinnoieste garderoba indiferent de marca, magazinul sau valoarea cheltu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oti avea ultimele modele ale celor mai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hic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magazine cu o reducere garantata de 2-5%* indiferent de se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u Value Card cumulezi discount-urile oferite de magazine sau de comercianti din reteaua CitiPartner cu reducerea aplicata pe ex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Imbracaminte si incaltamin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8" name="Picture 2" descr="I:\Value Card project\486843_21450773.jpg"/>
          <p:cNvPicPr/>
          <p:nvPr/>
        </p:nvPicPr>
        <p:blipFill>
          <a:blip r:embed="rId1"/>
          <a:stretch/>
        </p:blipFill>
        <p:spPr>
          <a:xfrm>
            <a:off x="6718320" y="4629240"/>
            <a:ext cx="1778040" cy="1326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65240" y="5867280"/>
            <a:ext cx="4279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6286680" y="1328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3:02:47Z</dcterms:created>
  <dc:creator>Roxana Alexe</dc:creator>
  <dc:description/>
  <dc:language>en-US</dc:language>
  <cp:lastModifiedBy>ag67592</cp:lastModifiedBy>
  <cp:lastPrinted>2002-12-03T08:52:21Z</cp:lastPrinted>
  <dcterms:modified xsi:type="dcterms:W3CDTF">2010-11-05T14:05:05Z</dcterms:modified>
  <cp:revision>1244</cp:revision>
  <dc:subject/>
  <dc:title>Training Citi Cards</dc:title>
</cp:coreProperties>
</file>