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79F-0227-4DFA-92C5-FDE918A0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F27-644D-4CEA-9049-E3571F5F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806-760A-411A-BBFE-29CE7CFE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476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228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0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476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228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9F7-60FC-4FB9-81A0-C04C83CA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4C48-E560-4F65-9EF5-757F48F2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851A-34C9-4E23-87A3-C9CF3A19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242B-6B71-496D-A220-889C5FCF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AA25-7EAD-4C88-A18B-98E2B2FF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0D94-7BC8-4548-8F48-1D146F24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25600" y="177480"/>
            <a:ext cx="80899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2964-362B-4215-BE32-DC7FC2CA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11F0-DD7B-4871-8B77-75573796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558-F6B1-462B-BC16-1370885D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64CF-C84F-438F-8454-3303177A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0351-387F-4509-A6B6-37010FD2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4777-0399-4568-B779-4FA46894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D704-DD55-4F27-A80C-CAA385E1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476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228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760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476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228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5CDF-3DA9-4891-9CF5-4B7EBB1F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5CE-DDED-4442-9DE6-FDC77B33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F27-D08F-40A7-A620-C9705910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DE96-7316-4C53-9357-645E8EAC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25600" y="177480"/>
            <a:ext cx="80899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6D1-F052-44F7-97F9-59BF2727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529-4920-4B8A-81C7-D7A274B0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CAE-A869-43EF-880F-AD44F08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668-2139-43CA-ACB1-857F1C78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6476760"/>
            <a:ext cx="2082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73C7-FEB4-4E0A-A9FA-2D23E0A3F422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0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4960" y="6463800"/>
            <a:ext cx="196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2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25E0-957D-4919-9D26-98D2795F55BD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12" descr="citi-r-3d-shadow_blu_ppt"/>
          <p:cNvPicPr/>
          <p:nvPr/>
        </p:nvPicPr>
        <p:blipFill>
          <a:blip r:embed="rId2"/>
          <a:srcRect l="0" t="0" r="8276" b="0"/>
          <a:stretch/>
        </p:blipFill>
        <p:spPr>
          <a:xfrm>
            <a:off x="8373960" y="0"/>
            <a:ext cx="77004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4"/>
          <p:cNvSpPr/>
          <p:nvPr/>
        </p:nvSpPr>
        <p:spPr>
          <a:xfrm>
            <a:off x="0" y="635040"/>
            <a:ext cx="9144000" cy="74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citi-r-3d-shadow_blu_ppt"/>
          <p:cNvPicPr/>
          <p:nvPr/>
        </p:nvPicPr>
        <p:blipFill>
          <a:blip r:embed="rId2"/>
          <a:srcRect l="0" t="0" r="8276" b="0"/>
          <a:stretch/>
        </p:blipFill>
        <p:spPr>
          <a:xfrm>
            <a:off x="8373960" y="0"/>
            <a:ext cx="77004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4"/>
          <p:cNvSpPr/>
          <p:nvPr/>
        </p:nvSpPr>
        <p:spPr>
          <a:xfrm>
            <a:off x="0" y="635040"/>
            <a:ext cx="9144000" cy="74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7960" y="6476760"/>
            <a:ext cx="2082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6718-91E7-4D76-BDF0-1CEDCEFA1DA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0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654960" y="6463800"/>
            <a:ext cx="196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2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E565-4E17-4E60-905C-07FD825EFDB1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itibank.ro/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Picture 4" descr="Picture 11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618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823B-6E32-4BB5-A697-7A815813D249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iti Value Card - Caracteristici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708120"/>
            <a:ext cx="881064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Comision anual card principal : 60 Lei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Comision anual card suplimentar: gratuit pe vi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obanda anuala la comercianti : 25,99 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obanda anuala pentru retrageri numerar: 28,99 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mita de credit : pana la 3 x venitul net, maxim  75.000 Le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mita minima de credit: 2.000 Le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mita de retragere numerar : 50 % din limita de credi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Perioada de gratie : pana la 54 zil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Suma minima de plata : minimum 3,5 %x sold debitor + dobânda + ratele aferente serviciilor PRE şi BPT (daca este cazul) + comsionele penalizatoare (daca este cazul) + suma reprezentand depasirea limitei de credit (daca este cazul) + suma minima de plata din extrasul precedent (in cazul in care nu s-a platit), dar nu mai putin de 25 Le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cceptare la nivel mondial (comercianti si ATM) – reteaua VIS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Reduceri  la comerciantii din reteaua CitiPartner, peste 500 de locati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iscount de 2% pentru sumele utilizate in Romania la comerciantii din categoriile: supermarket, benzinarii, imbracaminte si pantofi, Restaurante, Cinema (discount de 5% in primele 90 de zile) oferite in extrasul de co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sigurare pentru garantie extinsa – oferita gratui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Pachet  de asigurare “Safety” optional, contra cost, oferit pentru protectia pretului, cumparaturilor si a utilizarilor frauduloas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5" name="Picture 6" descr="C:\Documents and Settings\ag67592\Desktop\cardif1.jpg"/>
          <p:cNvPicPr/>
          <p:nvPr/>
        </p:nvPicPr>
        <p:blipFill>
          <a:blip r:embed="rId1"/>
          <a:stretch/>
        </p:blipFill>
        <p:spPr>
          <a:xfrm>
            <a:off x="6568920" y="714240"/>
            <a:ext cx="23641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 de mult economisesti folosind Citi Value Card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Picture 4" descr="flyer_fata1"/>
          <p:cNvPicPr/>
          <p:nvPr/>
        </p:nvPicPr>
        <p:blipFill>
          <a:blip r:embed="rId1"/>
          <a:stretch/>
        </p:blipFill>
        <p:spPr>
          <a:xfrm>
            <a:off x="0" y="1273320"/>
            <a:ext cx="9144000" cy="4573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863640" y="888840"/>
            <a:ext cx="8128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EBUIE MODIFICAT CU NOUL LEAFLET CARE INCLUDE SI IMPOZIT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1019160"/>
            <a:ext cx="8899560" cy="4441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52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 de mult economisesti folosind Citi Value Card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AutoShape 971"/>
          <p:cNvSpPr/>
          <p:nvPr/>
        </p:nvSpPr>
        <p:spPr>
          <a:xfrm>
            <a:off x="8102520" y="5078520"/>
            <a:ext cx="863640" cy="593640"/>
          </a:xfrm>
          <a:prstGeom prst="irregularSeal1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utoShape 975"/>
          <p:cNvSpPr/>
          <p:nvPr/>
        </p:nvSpPr>
        <p:spPr>
          <a:xfrm>
            <a:off x="6033960" y="4406760"/>
            <a:ext cx="822600" cy="457200"/>
          </a:xfrm>
          <a:prstGeom prst="irregularSeal1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976"/>
          <p:cNvSpPr/>
          <p:nvPr/>
        </p:nvSpPr>
        <p:spPr>
          <a:xfrm>
            <a:off x="5068800" y="4381560"/>
            <a:ext cx="665280" cy="504720"/>
          </a:xfrm>
          <a:prstGeom prst="irregularSeal1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5638680"/>
            <a:ext cx="89917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 algn="just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losind Citi Value Card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unar puteti economisi net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34 Lei,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iar in primele 3 luni puteti economisi ne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tr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50 Lei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nual puteti economisi foarte usor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494 Lei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1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5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6EC0-C703-4430-9616-29FC1645599D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1026"/>
          <p:cNvSpPr/>
          <p:nvPr/>
        </p:nvSpPr>
        <p:spPr>
          <a:xfrm>
            <a:off x="0" y="9954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Extrasul de co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463680" y="847800"/>
            <a:ext cx="8292960" cy="560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511520" y="3492360"/>
          <a:ext cx="3718080" cy="365400"/>
        </p:xfrm>
        <a:graphic>
          <a:graphicData uri="http://schemas.openxmlformats.org/drawingml/2006/table">
            <a:tbl>
              <a:tblPr/>
              <a:tblGrid>
                <a:gridCol w="2686320"/>
                <a:gridCol w="103176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 discount  extras curent de co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4 L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iscount de la aprobarea cardulu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4 L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AutoShape 976"/>
          <p:cNvSpPr/>
          <p:nvPr/>
        </p:nvSpPr>
        <p:spPr>
          <a:xfrm>
            <a:off x="7164360" y="3187800"/>
            <a:ext cx="1096920" cy="1006200"/>
          </a:xfrm>
          <a:prstGeom prst="irregularSeal1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5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6524-2C56-4DFA-AF11-49B0A0B7EA52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9954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634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um func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t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ioneaz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Citi 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Value 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Card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93400"/>
            <a:ext cx="86612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Limita de credit este stabilita de banca in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functie de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venitul net al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licitantului de card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si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de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incadrarea acestuia in criteriile de eligibilitate stabilite prin politicile interne de cred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Detinatorul de card poate utiliza integral limita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de credit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pentru cumparaturi (comercianti, Internet), plata utilitătilor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pt-BR" sz="1600" spc="-1" strike="noStrike">
                <a:solidFill>
                  <a:srgbClr val="000099"/>
                </a:solidFill>
                <a:latin typeface="Arial"/>
              </a:rPr>
              <a:t>gaz, apa, electricitate, telefonie, internet, cablu TV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si </a:t>
            </a:r>
            <a:r>
              <a:rPr b="0" i="1" lang="pt-BR" sz="1600" spc="-1" strike="noStrike">
                <a:solidFill>
                  <a:srgbClr val="000099"/>
                </a:solidFill>
                <a:latin typeface="Arial"/>
              </a:rPr>
              <a:t>taxe de scolarizare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 50% din limita de credit pentru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retragere de nume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Perioada de gratie este de 54 de zile, daca achizitia a fost facuta in prima zi a perioadei de referinta (30 de zile) si daca sol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ul debitor est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rambursat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integral pana la data scad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cumularea, pe extras, de sume de bani oferite ca discount la tranzactiile din Romania efectuate la comerciantii din categoriile pentru care se acorda reduce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Discountul NU se ofera pentru tranzactiile de retragere de numerar, efectuate la comercianti in strainatate sau efectuate p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Ofera posibilitatea de a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achita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numai suma minima de plata (3,5% din soldul debitor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+ dobânda + ratele aferente serviciilor PRE şi BPT (daca este cazul) + comsionele penalizatoare (daca este cazul) + suma reprezentand depasirea limitei de credit (daca este cazul) + suma minima de plata din extrasul precedent (in cazul in care nu s-a platit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2F97-923F-4C8B-A416-3D04D3A51CDF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Beneficii Citi Value Card - fata de plata cu numera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4880" y="809280"/>
            <a:ext cx="88232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Minimizează pericolul de pierdere sau de furt a numerarului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feră dobândă ZERO pentru cumpărături, de până la 54 de z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Folosind Citi Value Card pentru toate platile puteti depune numerarul într-un cont purtător de dobândă sau depozit la termen beneficiind de dobând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Vă asigură optional si contra cost pe perioada călătoriilor in straina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Beneficiaţi de reduceri la diferite categorii de comercianti: shopping, restaurante, hoteluri, wellness, etc, din reteaua CitiPartn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Extra discount pe extras de 2% (pana la 5% in primele 90 de zile) pentru tranzactiile la comercianti in Romania din categoria benzinarii, restaurante, baruri, magazine de imbracaminte si incaltaminte sin supermarket-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Puteti plăti gratuit facturile de utilitati printr-un simplu telef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Puteti efectua cumparaturi pe intern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Aveti acces gratuit la cele mai cunoscute muzee din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Economisiti bani şi nu vă expuneţi riscului de schimb valutar in cazul plăţilor in valută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Beneficiaţi de un extras de cont lunar detaliat ce va permite urmarirea cheltuielil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2FAA-D3FF-4029-ACE6-DF14FD8D9936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1440" y="177480"/>
            <a:ext cx="8344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eneficii Citi Value Card - fata </a:t>
            </a: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de un card de debit cu descoperire de co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3480" y="948960"/>
            <a:ext cx="844236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Oferă dobândă ZERO pentru cumpărături, de până la 54 de z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Folosind Citi Value Card pentru toate platile puteti depune numerarul într-un cont purtător de dobândă sau depozit la termen beneficiind de dobând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Vă asigură contra cost pe perioada călătoriilor in straina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Beneficiaţi de reduceri la diferite categorii de comercianti: shopping, restaurante, hoteluri, wellness, etc in reteaua CitiPartner, peste 500 de locati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Extra discount pe extras de 2% (pana la 5% in primele 90 de zile) pentru tranzactiile la comercianti in Romania din categoria benzinarii, restaurante, baruri, magazine de imbracaminte si incaltaminte sin supermarket-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uteti plati gratuit facturile de utilitati printr-un simplu telef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Oferă siguranţă mai mare la efectuarea cumparaturilor pe intern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Aveti acces gratuit la cele mai cunoscute muzee din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Beneficiaţi de un extras de cont lunar detaliat ce va permite urmarirea cheltuielil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Beneficiati de campaniile publicitare pentru utilizarea cardulu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rin serviciul de alertare CitiAlert beneficiati de informare permanenta in timp real asupra tranzactiilor dumneavoastra prin sms/e-mai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E5BE-3BFD-4131-9AFF-AC08468F8560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Beneficii Citi Value Card – fata </a:t>
            </a: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de plata cu un alt card de credi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Vă asigură gratuit pe perioada călătoriil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Beneficiaţi de reduceri la diferite categorii de comercianti: shopping, restaurante, hoteluri, wellness, etc, din reteaua CitiPartner, peste 500 de locati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Extra discount pe extras de 2% (pana la 5% in primele 90 de zile) pentru tranzactiile la comercianti in Romania din categoria benzinarii, restaurante, baruri, magazine de imbracaminte si incaltaminte sin supermarket-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uteti plati gratuit facturile de utilitati printr-un simplu telef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Aveti acces gratuit la cele mai cunoscute muzee din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rin serviciul de alertare CitiAlert beneficiati de informare permanenta in timp real asupra tranzactiilor dumneavoastra prin sms/e-mai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cenarii calcul DAE  (limita de credit aprobat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5,367 Lei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79360" y="948960"/>
            <a:ext cx="867096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ata dobanzii pentru cumparaturi este fix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,99 %/a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iar pentru retrageri de numerar este fix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8,99 %/a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lientul utilizeaza intreaga limita de credit (50% cumparaturi, 50% retragere de numera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Maximum DAE pentru suma utilizata din prima zi si rambursata in termen de 12 luni in rate egale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4.04%;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suma totala rambursata de catre detinatorul de card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6.259,40 L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lientul utilizeaza intreaga limita de credit pentru cumparaturi (100% cumparatu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Maximum DAE pentru suma utilizata din prima zi si rambursata in termen de 12 luni in rate egale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2.08%;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suma totala rambursata de catre detinatorul de card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6.212,20 L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lientul utilizeaza doar limita disponibila pentru retragere de nume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Maximum DAE pentru suma utilizata din prima zi si rambursata in termen de 12 luni in rate egale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8.97%;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suma totala rambursata de catre detinatorul de card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.183,3 Lei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F009-E037-4F70-BD96-EBCD7092D00D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96880" y="3238560"/>
            <a:ext cx="723960" cy="673200"/>
          </a:xfrm>
          <a:prstGeom prst="irregularSeal2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44280"/>
            <a:ext cx="824076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cces gratuit la muze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612720"/>
            <a:ext cx="590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entru iubitorii de cultura - acces gratuit  la Muzeele din Bucuresti si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cces gratuit la cele mai vizitate 17 muzee din Bucuresti si tara (</a:t>
            </a: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Sibiu, Iasi, Cluj, Sinaia si Bran) – lista se afla pe site (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citibank.ro</a:t>
            </a: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entru clientii Value Card (la fel ca pentru clientii Gold) – intrare gratuita + 2 perso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Reduceri  la magazinele CitiPartner, peste 500 de locatii  intre 10-30% (la fel ca pentru clientii G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La intrare clientii vor prezenta cardul de credit  care va fi trecut printr-un imprinter (zip-zap). Pe chitanta imprimata se va trece numele clientului + cati invitati are (nu mai mult de numarul agr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7" descr="peles2"/>
          <p:cNvPicPr/>
          <p:nvPr/>
        </p:nvPicPr>
        <p:blipFill>
          <a:blip r:embed="rId2"/>
          <a:stretch/>
        </p:blipFill>
        <p:spPr>
          <a:xfrm>
            <a:off x="6313320" y="1405080"/>
            <a:ext cx="2538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71F1-B527-4BF2-813D-AB64C2023332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34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94240" y="2945880"/>
            <a:ext cx="554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el mai mare discount pe piata: 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5%*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plicat pe extrasul curent in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rimele 90 de zil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de la data emiterii card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conomii real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: primesti banii imediat, fara amanari, fara concursuri, fara puncte de fidel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ransparenta si vizibilitat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: reducerile afisate direct pe extrasul in care ai chelt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obanda scazut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entru tranzactiile la comercianti: 25.99% pe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iti-Shopping-chip"/>
          <p:cNvPicPr/>
          <p:nvPr/>
        </p:nvPicPr>
        <p:blipFill>
          <a:blip r:embed="rId1"/>
          <a:stretch/>
        </p:blipFill>
        <p:spPr>
          <a:xfrm>
            <a:off x="6048360" y="723960"/>
            <a:ext cx="2820960" cy="1879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68280" y="888840"/>
            <a:ext cx="59817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iscount de 2%*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plicat pe extrasul curent pentru tranzactiile la comerciantii din Romania din urmatoarele categori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Hypermarket si Supermar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zina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estaurante, baruri, cafen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mbracaminte, incaltami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Cin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9" descr="I:\Value Card project\5127discount.jpg"/>
          <p:cNvPicPr/>
          <p:nvPr/>
        </p:nvPicPr>
        <p:blipFill>
          <a:blip r:embed="rId2"/>
          <a:stretch/>
        </p:blipFill>
        <p:spPr>
          <a:xfrm>
            <a:off x="558720" y="3657600"/>
            <a:ext cx="3057480" cy="2235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5994360"/>
            <a:ext cx="3809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%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8C82-8B8F-433B-A226-6C147AEA8882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9680" y="965160"/>
          <a:ext cx="8864640" cy="5664240"/>
        </p:xfrm>
        <a:graphic>
          <a:graphicData uri="http://schemas.openxmlformats.org/drawingml/2006/table">
            <a:tbl>
              <a:tblPr/>
              <a:tblGrid>
                <a:gridCol w="2273400"/>
                <a:gridCol w="6591240"/>
              </a:tblGrid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d Categorie Comerciant (MCC = Merchant Code Categ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te definit de catre Asociatia de carduri VISA si fiecare comerciant este incadrat intr-o categorie in momentul in care Banca Acceptatoare ii instaleaza POS-ul. Categoria se alege de catre Banca Acceptatoare in functie de activitatea prestata de comerciantul respect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per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telele mari de magazine alimentare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uchan, Billa, Carrefour, Kaufland, Interspar, Mega Image, Metro, Penny Market, Real, XXL, G-Market, Profi, Cristim, ANGST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zinar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oate benzinariile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MV, Lukoil, Mol, Agip, Rompetrol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staurante, baruri, cafen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joritatea restaurantelor, fast-food-urilor, cafenelelor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cDonald, KFC, Pizza Hut,Burger King, Gregory’s, Spring Time, Chopstix, El Bacha, Quatro Stagioni, Trattoria, Costa Coffe, Dailight Donuts, Starbucks,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bracaminte, incaltami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joritatea comerciantilor din mall-uri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Zara, Mango, Bershka, Massimo Dutti, Gap, Motivi, Promod, Esprit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ox, Benvenutti, Il Passo, Aldo, Bata, etc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45DF-5DE6-4A24-B8B7-B2030262EAF7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66760" y="1177920"/>
            <a:ext cx="8556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88720" indent="-1756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erioad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de gratie pentru tranzactiile la comercianti -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pana la 54 de z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sigurare pentru garantie extinsa la produsele electronice 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ita grat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achetul de asigurare “Safety”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– pachet optional contra cost, oferit pentru protectia pretului, a cumparaturilor si pentru utilizarea frauduloasa a cardul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Asigurarea creditului utilizat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ita de ALICO Asigurari Romania S.A.*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ptionala, contra cost,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asigura suma utilizata din limita de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sigurare optionala de calatori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–contra cost, acopera cheltuielile de natura medicala si protejarea bunurilor detinatorilor de carduri pe perioada calatoriilor in straina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Serviciul Citi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lert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erviciu optional, contra cost, care ofera posibilitatea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detinatorului sa primeasca un mesaj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de informare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prin SMS si/sau e-mail pentru fiecare tranzacti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f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acuta cu card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5D91-B1A9-408C-AB20-65F31DD3656A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66760" y="1177920"/>
            <a:ext cx="8556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Plan de Rate Egale (PRE)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a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osibilitatea de 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ambursa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suma utilizata din limita de credit in rate egale la o dobanda anuala scaz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Serviciul Bani Prin Telefon (BPT)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a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osibilitatea de a transfera o parte din limita d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etragere de numerar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din contul de card intr-un cont curent al Detinatorului de Card deschis la o alta Banca din 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Plata utilităti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</a:rPr>
              <a:t>gaz, apa, electricitate, telefonie, internet, cablu TV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si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</a:rPr>
              <a:t>taxe de scolarizare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ot fi platite prin CitiPhon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Banking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Acceptare internationala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la comercianti si pentru extragerea de num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CitiPhone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Banking®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serviciul de relatii cu clientii la telefoanele 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080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801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040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elVerde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+40 372 124-842 (mobil si interna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arduri Suplimentar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– pana la 6 rude/prieteni care pot avea acces la limita si beneficiile titularului de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383-2CD4-4519-A0E4-9036EA682A19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17520" y="1063440"/>
            <a:ext cx="604512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PERMARKET si HYPER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La tot ce achizitionati in supermarket-uri (ex: Carrefour, Billa, Cora, Mega Image, G-Market, etc.) economisiti  2-5%* din valoarea aferenta, indiferent de suma cheltuita (tranzactii efectuate in Roma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eficiati de reduceri nu de concursuri sau puncte de fideli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La sfarsit de extras primesti 2-5%* din sumele chelt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Supermark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Picture 2" descr="I:\Value Card project\discount-coupons.jpg"/>
          <p:cNvPicPr/>
          <p:nvPr/>
        </p:nvPicPr>
        <p:blipFill>
          <a:blip r:embed="rId1"/>
          <a:stretch/>
        </p:blipFill>
        <p:spPr>
          <a:xfrm>
            <a:off x="6342120" y="1028880"/>
            <a:ext cx="2496960" cy="24890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3809880" y="3860640"/>
            <a:ext cx="494028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ara conditionari de suma minima cheltu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18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eficiezi  gratuit de garantie extinsa pentru electron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anii tai devin mai valorosi cu fiecare cumparatura pe care o faci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3" descr="I:\Value Card project\278050_9913.jpg"/>
          <p:cNvPicPr/>
          <p:nvPr/>
        </p:nvPicPr>
        <p:blipFill>
          <a:blip r:embed="rId2"/>
          <a:stretch/>
        </p:blipFill>
        <p:spPr>
          <a:xfrm>
            <a:off x="647640" y="4124160"/>
            <a:ext cx="3048120" cy="2213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5334120" y="5994360"/>
            <a:ext cx="3809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I:\Value Card project\ist2_2101655-fuel-costs.jpg"/>
          <p:cNvPicPr/>
          <p:nvPr/>
        </p:nvPicPr>
        <p:blipFill>
          <a:blip r:embed="rId1"/>
          <a:stretch/>
        </p:blipFill>
        <p:spPr>
          <a:xfrm>
            <a:off x="5905440" y="781200"/>
            <a:ext cx="2768760" cy="1536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371520" y="936720"/>
            <a:ext cx="855648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urnizori de carbu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Carbur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nack-uri si cafea pentru dr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Lichid de parbriz, ulei de motor, lanturi si alte consumabile pentru masi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26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Tahoma"/>
              </a:rPr>
              <a:t>Astepti sa se ieftineasca combustibilul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alue Card iti ofera mai mult!  Primesti reduceri reale pentru toate achizitiile d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zinarii, inclusiv carburant (tranzactii efectuate in Romani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C673-2121-4D01-A4B4-5C459F2D231B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720960" y="3695760"/>
            <a:ext cx="52452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27144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ti faci plinul /Alimentezi si primesti un discount garantat  de 2-5%* din cheltuielile de transport la sfarsitul extrasului lu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izibilitate maxima a sumelor economisite din cheltuielile cu carburantul, afisate pe extreasul de cont.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– Furnizori de carbura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2" name="Picture 2" descr="I:\Value Card project\ist2_13203964-fuel-gauge.jpg"/>
          <p:cNvPicPr/>
          <p:nvPr/>
        </p:nvPicPr>
        <p:blipFill>
          <a:blip r:embed="rId2"/>
          <a:stretch/>
        </p:blipFill>
        <p:spPr>
          <a:xfrm>
            <a:off x="698400" y="4838760"/>
            <a:ext cx="1384560" cy="138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:\Value Card project\ist2_13850323-fuel-gauge.jpg"/>
          <p:cNvPicPr/>
          <p:nvPr/>
        </p:nvPicPr>
        <p:blipFill>
          <a:blip r:embed="rId3"/>
          <a:stretch/>
        </p:blipFill>
        <p:spPr>
          <a:xfrm>
            <a:off x="2306520" y="4826160"/>
            <a:ext cx="1427400" cy="142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1206360" y="4444920"/>
            <a:ext cx="2014560" cy="550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181480" y="5842080"/>
            <a:ext cx="3810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ABDC-AAA1-4C1B-960E-1184ED31505E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7840" y="799920"/>
            <a:ext cx="877248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i o viata sociala acti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TAURANTE, BARURI, CAFEN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bisnuiesti sa iei masa in oras, in timpul serviciului sau in timpul li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Te distezi in baruri sau iesi la o caf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chita nota cu Value Card si primesti inap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2-5%* din consumul tau la emiterea extrasului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ti place sa traiesti alaturi de actorii tai prefera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loseste Value Card si delecteaza-te alaturi de 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chita biletul cu Value Card si primesti inap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2-5%* din valoarea lui la emiterea extrasului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cesta este inceputul unei prietenii frumoas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UZ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ucura-te de acces gratuit si nelimitat la cele mai impor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muzee din tara alaturi de 2 perso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– Stil de vi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0" name="Picture 2" descr="I:\Value Card project\castelul-peles.jpg"/>
          <p:cNvPicPr/>
          <p:nvPr/>
        </p:nvPicPr>
        <p:blipFill>
          <a:blip r:embed="rId1"/>
          <a:stretch/>
        </p:blipFill>
        <p:spPr>
          <a:xfrm>
            <a:off x="6807240" y="4681440"/>
            <a:ext cx="1946160" cy="132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I:\Value Card project\Goethe%20cinema%20front.jpg"/>
          <p:cNvPicPr/>
          <p:nvPr/>
        </p:nvPicPr>
        <p:blipFill>
          <a:blip r:embed="rId2"/>
          <a:stretch/>
        </p:blipFill>
        <p:spPr>
          <a:xfrm>
            <a:off x="6794640" y="3295800"/>
            <a:ext cx="1949400" cy="12920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5181480" y="6032520"/>
            <a:ext cx="3962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10" descr="C:\Documents and Settings\ag67592\Desktop\Value Card project\tocanita-cu-carnati-300x183.jpg"/>
          <p:cNvPicPr/>
          <p:nvPr/>
        </p:nvPicPr>
        <p:blipFill>
          <a:blip r:embed="rId3"/>
          <a:stretch/>
        </p:blipFill>
        <p:spPr>
          <a:xfrm>
            <a:off x="6781680" y="2062080"/>
            <a:ext cx="19623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E3AA-71E3-4E3D-8C4D-CD18DF4C9BE3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66760" y="952560"/>
            <a:ext cx="5727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rei sa fii in ton cu mo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Moda in materie de incaltaminte are un nou tre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stepti reducerile de sfarsit de sez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steptarea s-a termin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alue Card iti reinnoieste garderoba indiferent de marca, magazinul sau valoarea cheltu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oti avea ultimele modele ale celor mai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hic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magazine cu o reducere garantata de 2-5%* indiferent de sez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Cu Value Card cumulezi discount-urile oferite de magazine sau de comercianti din reteaua CitiPartner cu reducerea aplicata pe ex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– Imbracaminte si incaltamin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8" name="Picture 2" descr="I:\Value Card project\486843_21450773.jpg"/>
          <p:cNvPicPr/>
          <p:nvPr/>
        </p:nvPicPr>
        <p:blipFill>
          <a:blip r:embed="rId1"/>
          <a:stretch/>
        </p:blipFill>
        <p:spPr>
          <a:xfrm>
            <a:off x="6718320" y="4629240"/>
            <a:ext cx="1778040" cy="1326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65240" y="5867280"/>
            <a:ext cx="4279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6286680" y="13287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3:02:47Z</dcterms:created>
  <dc:creator>Roxana Alexe</dc:creator>
  <dc:description/>
  <dc:language>en-US</dc:language>
  <cp:lastModifiedBy>ag67592</cp:lastModifiedBy>
  <cp:lastPrinted>2002-12-03T08:52:21Z</cp:lastPrinted>
  <dcterms:modified xsi:type="dcterms:W3CDTF">2010-11-05T14:05:05Z</dcterms:modified>
  <cp:revision>1244</cp:revision>
  <dc:subject/>
  <dc:title>Training Citi Cards</dc:title>
</cp:coreProperties>
</file>